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420-A84B-44E9-990A-2789E0E4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190-369C-46B2-9EA1-94B2307F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075-6ABF-478F-9EDF-805E5D77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FE4-AF6D-4123-A481-660989FB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0FA-8453-4127-A987-A7B3F50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C51-247E-4161-A543-753C51F8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651-E227-4AF5-BD49-99476EC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E54-EF35-4551-9229-B2322914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D8D-7A15-45E8-AFD0-782628BF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709-5C2E-449C-A8BD-1D372AD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B04-EBBE-4DA8-9BCB-6BA56B0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044-61BF-44DF-A079-6C6D49A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9C4E-AB31-4FA8-BF4A-0AB11193CB01}" type="slidenum">
              <a:rPr b="0" lang="en-US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Milky Wa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yl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Feld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http://ircamera.as.arizona.edu/NatSci102/NatSci102/images/milkyway.jpg"/>
          <p:cNvPicPr/>
          <p:nvPr/>
        </p:nvPicPr>
        <p:blipFill>
          <a:blip r:embed="rId2"/>
          <a:stretch/>
        </p:blipFill>
        <p:spPr>
          <a:xfrm>
            <a:off x="4572000" y="3581280"/>
            <a:ext cx="3308400" cy="2560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31440" y="1484280"/>
            <a:ext cx="45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s 100,000 light years acros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Text Box 11" descr=""/>
          <p:cNvPicPr/>
          <p:nvPr/>
        </p:nvPicPr>
        <p:blipFill>
          <a:blip r:embed="rId3"/>
          <a:stretch/>
        </p:blipFill>
        <p:spPr>
          <a:xfrm>
            <a:off x="1481040" y="2023920"/>
            <a:ext cx="4187880" cy="96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1524600" y="2362320"/>
            <a:ext cx="35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is 2 fried eggs back - back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1601640" y="2895480"/>
            <a:ext cx="286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al galax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mble a pinwhe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 disk bluge in cente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utiful at nigh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806560" y="4935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s Lik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584880" y="3049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and Shap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367360" y="1523880"/>
            <a:ext cx="31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middle bigger than su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659760" y="5335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346120" y="1332000"/>
            <a:ext cx="376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d together by gravit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cloud canes venatici clou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,000 million sta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tar in milky way is su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hole in midd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20600" y="4935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808000" y="1407960"/>
            <a:ext cx="42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ve 188 miles closer every secon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in Milky Wa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not near midd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cc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59040" y="5335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52480" y="1676520"/>
            <a:ext cx="60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times people thought that it looked like spilled milk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takes 225 million years around the center o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y way has a twin Andromed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56:00Z</dcterms:created>
  <dc:creator>FELDTRYL000</dc:creator>
  <dc:description/>
  <dc:language>en-US</dc:language>
  <cp:lastModifiedBy>FELDTRYL000</cp:lastModifiedBy>
  <dcterms:modified xsi:type="dcterms:W3CDTF">2010-02-04T16:13:40Z</dcterms:modified>
  <cp:revision>7</cp:revision>
  <dc:subject/>
  <dc:title>Milky Way</dc:title>
</cp:coreProperties>
</file>